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mes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43E-B35A-4D37-BA24-13BEB030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AF4-05E1-482B-991F-04316F10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A48-5254-4190-BF76-6B3755AD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6EC-A145-499D-96B0-9B7E7284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9C3-2F73-4388-8322-275ADED0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4F0-5DF1-40C1-B2B8-835A744B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342-612C-432B-A11C-1B8189AD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390-3FA3-4283-A911-1B82D395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CC5-6C57-4EDE-B518-00C4004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919-FAC7-4A98-9668-7D6D1E50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9C6-C481-4244-9F27-2A4AB891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04A-8FBC-46B8-B099-409685E3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FE87-48CF-4AAC-A21B-EEFD92FE8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jetflyby2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chimes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jetflyby2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hzipup01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chimes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zapbig0g.wav"/><Relationship Id="rId20" Type="http://schemas.openxmlformats.org/officeDocument/2006/relationships/audio" Target="../media/hzipup01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88800" y="1895400"/>
                <a:ext cx="8524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9560" y="37288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41280" y="1566720"/>
                <a:ext cx="94140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50800" y="3025800"/>
                <a:ext cx="567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021120" y="1606680"/>
                <a:ext cx="941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033720" y="3024360"/>
                <a:ext cx="9478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389720" y="1330200"/>
                <a:ext cx="8924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49560" y="235908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44880" y="153684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97080" y="163368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106720" y="380844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01680" y="3111480"/>
                <a:ext cx="730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141720" y="3119400"/>
                <a:ext cx="780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624560" y="19270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35160" y="4764240"/>
                <a:ext cx="10065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22640" y="5710320"/>
                <a:ext cx="896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33880" y="4794120"/>
                <a:ext cx="10098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110120" y="5641920"/>
                <a:ext cx="1011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61120" y="5364000"/>
                <a:ext cx="558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93000" y="4707000"/>
                <a:ext cx="6174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124680" y="5659560"/>
                <a:ext cx="558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1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66840" y="1895400"/>
                <a:ext cx="89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9560" y="37288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24160" y="1566720"/>
                <a:ext cx="5745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25600" y="3025800"/>
                <a:ext cx="619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73320" y="1606680"/>
                <a:ext cx="836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086280" y="3024360"/>
                <a:ext cx="8413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375680" y="1689120"/>
                <a:ext cx="7794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065320" y="2394000"/>
                <a:ext cx="784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60640" y="1536840"/>
                <a:ext cx="787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097080" y="163368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071800" y="386064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01680" y="3041640"/>
                <a:ext cx="730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41720" y="3119400"/>
                <a:ext cx="7808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624560" y="23842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35160" y="4764240"/>
                <a:ext cx="10065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160800" y="5719680"/>
                <a:ext cx="785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26360" y="1697040"/>
                <a:ext cx="502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42960" y="1527120"/>
                <a:ext cx="57492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6840" y="1895400"/>
                <a:ext cx="89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560" y="367524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635120" y="1608120"/>
                <a:ext cx="469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31800" y="3025800"/>
                <a:ext cx="619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00320" y="1571760"/>
                <a:ext cx="782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18040" y="3024360"/>
                <a:ext cx="5792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127240" y="2367000"/>
                <a:ext cx="730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124000" y="1630440"/>
                <a:ext cx="730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98880" y="1598760"/>
                <a:ext cx="7826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214720" y="385272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92400" y="306720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16240" y="3041640"/>
                <a:ext cx="5587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624560" y="25588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036960" y="4741920"/>
                <a:ext cx="1006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184560" y="4836960"/>
                <a:ext cx="7286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586640" y="1687680"/>
                <a:ext cx="503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92680" y="5170320"/>
                <a:ext cx="106344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921200" y="4654440"/>
                <a:ext cx="6177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60800" y="5626080"/>
                <a:ext cx="506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66840" y="1895400"/>
                <a:ext cx="895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9560" y="37288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41280" y="1566720"/>
                <a:ext cx="9399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25600" y="3025800"/>
                <a:ext cx="6192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021120" y="1606680"/>
                <a:ext cx="94140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033720" y="3024360"/>
                <a:ext cx="9460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319880" y="1689120"/>
                <a:ext cx="890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149560" y="2394000"/>
                <a:ext cx="615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44880" y="1623960"/>
                <a:ext cx="618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25880" y="1660680"/>
                <a:ext cx="7254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43000" y="388764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75040" y="306864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79600" y="31194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624560" y="23842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035160" y="4764240"/>
                <a:ext cx="10065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105000" y="5719680"/>
                <a:ext cx="898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66840" y="1895400"/>
                <a:ext cx="896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560" y="37288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97160" y="1566720"/>
                <a:ext cx="6267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50800" y="3025800"/>
                <a:ext cx="56844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24560" y="912960"/>
            <a:ext cx="451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Find the least common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073320" y="1554120"/>
                <a:ext cx="836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086280" y="3024360"/>
                <a:ext cx="8395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375680" y="1716120"/>
                <a:ext cx="779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093760" y="2367000"/>
                <a:ext cx="728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089080" y="1596960"/>
                <a:ext cx="731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36760" y="1595520"/>
                <a:ext cx="503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43000" y="3887640"/>
                <a:ext cx="785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075040" y="3068640"/>
                <a:ext cx="785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52960" y="309564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624560" y="2384280"/>
            <a:ext cx="451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Subtract the numerators, put it over the common denominator and change into mixed number and reduce if need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5108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035160" y="4764240"/>
                <a:ext cx="100656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160800" y="5748480"/>
                <a:ext cx="7858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81720" y="1738440"/>
                <a:ext cx="557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426360" y="1738440"/>
                <a:ext cx="502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1, 8 – 4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6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1-18T14:01:49Z</dcterms:modified>
  <cp:revision>78</cp:revision>
  <dc:subject/>
  <dc:title>Slide 1</dc:title>
</cp:coreProperties>
</file>